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83D-7CBC-4552-A1FF-9F9D6E89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7E8-812A-43BF-8A4E-D5E81F9B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894-FF24-45FC-A0BB-15178EDE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6ED-09D3-430A-AF25-E386D1F2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F8B-C4F3-40CF-AE7D-F7C4AB13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D9B-C970-4025-ADFD-0B587B72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63E-AA91-412F-AA93-ADF6A83F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5EC-29F7-4FD3-8DB3-3ACFF293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BC0-4D06-40C1-A0AC-33664B8E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5E7-B1AA-432B-96B6-B3DD942F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BAF-80FA-4EDE-9D96-DBAB069A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101-F917-4250-8BBF-8AC08A19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88F7-A0A0-4B96-8DEF-856BC8179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2960" y="838080"/>
            <a:ext cx="7316640" cy="4756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48320" y="1143000"/>
            <a:ext cx="1295280" cy="4495680"/>
          </a:xfrm>
          <a:prstGeom prst="ellipse">
            <a:avLst/>
          </a:prstGeom>
          <a:solidFill>
            <a:srgbClr val="ffff00">
              <a:alpha val="71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1219320"/>
            <a:ext cx="121896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914040"/>
            <a:ext cx="0" cy="48006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29440" y="4572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the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914400"/>
            <a:ext cx="281952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4495680"/>
            <a:ext cx="5029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46320" y="4191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4191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286000"/>
            <a:ext cx="3276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3040" y="23623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ere is th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281952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45120" y="1219320"/>
            <a:ext cx="279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ally, most of the numbers are in this area, and are not evenly distributed throughout the 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tandard Devia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is a number that measures how far away each number in a set of data is from their mea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ndard Devi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rge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t means the numbers are spread out from their mean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ndard Devi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t means the numbers are close to their me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99800" y="4686480"/>
            <a:ext cx="16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8120" y="133344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895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are the scores on the math quiz for Team 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038480" y="838080"/>
          <a:ext cx="947880" cy="5222880"/>
        </p:xfrm>
        <a:graphic>
          <a:graphicData uri="http://schemas.openxmlformats.org/drawingml/2006/table">
            <a:tbl>
              <a:tblPr/>
              <a:tblGrid>
                <a:gridCol w="94788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5105520" y="838080"/>
            <a:ext cx="990360" cy="5181840"/>
          </a:xfrm>
          <a:custGeom>
            <a:avLst/>
            <a:gdLst>
              <a:gd name="textAreaLeft" fmla="*/ 0 w 990360"/>
              <a:gd name="textAreaRight" fmla="*/ 357480 w 99036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72720" y="2827440"/>
            <a:ext cx="24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a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1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Deviation measures how far away each number in a set of data is from their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50012"/>
          <a:stretch/>
        </p:blipFill>
        <p:spPr>
          <a:xfrm>
            <a:off x="609480" y="2438280"/>
            <a:ext cx="7926480" cy="4170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V="1">
            <a:off x="5168880" y="3657240"/>
            <a:ext cx="0" cy="25146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start with the lowest score, 72.  How far away is 72 from the mean of 81.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45000" y="4267080"/>
            <a:ext cx="1536480" cy="1296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4089240"/>
            <a:ext cx="0" cy="1219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95520" y="2006640"/>
            <a:ext cx="23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 - 81.5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82284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50012"/>
          <a:stretch/>
        </p:blipFill>
        <p:spPr>
          <a:xfrm>
            <a:off x="609480" y="2438280"/>
            <a:ext cx="7926480" cy="417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V="1">
            <a:off x="5168880" y="3657240"/>
            <a:ext cx="0" cy="25146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645000" y="4267080"/>
            <a:ext cx="1536480" cy="1296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089240"/>
            <a:ext cx="0" cy="1219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382284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start with the lowest score, 89.  How far away is 89 from the mean of 81.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94440" y="4257720"/>
            <a:ext cx="1206360" cy="936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4064040"/>
            <a:ext cx="0" cy="1219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96240" y="20066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9 - 81.5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8228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, the first step to finding the Standard Deviation is to find all the distances from the mea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, the first step to finding the Standard Deviation is to find all the distances from the mea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, you need to square each of the distances to turn them all into positive numb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, you need to square each of the distances to turn them all into positive numb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wo classes took a recent quiz.  There were 10 students in each class, and each class had an average score of 81.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 up all of the distan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1219320"/>
            <a:ext cx="685800" cy="5181480"/>
          </a:xfrm>
          <a:custGeom>
            <a:avLst/>
            <a:gdLst>
              <a:gd name="textAreaLeft" fmla="*/ 0 w 685800"/>
              <a:gd name="textAreaRight" fmla="*/ 24768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73840" y="1905120"/>
            <a:ext cx="9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by (n - 1)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amount of numbers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1219320"/>
            <a:ext cx="685800" cy="5181480"/>
          </a:xfrm>
          <a:custGeom>
            <a:avLst/>
            <a:gdLst>
              <a:gd name="textAreaLeft" fmla="*/ 0 w 685800"/>
              <a:gd name="textAreaRight" fmla="*/ 24768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3840" y="1905120"/>
            <a:ext cx="9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27432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0840" y="27813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 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48200" y="35053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3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ly, take the Square Root of the average dist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1219320"/>
            <a:ext cx="685800" cy="5181480"/>
          </a:xfrm>
          <a:custGeom>
            <a:avLst/>
            <a:gdLst>
              <a:gd name="textAreaLeft" fmla="*/ 0 w 685800"/>
              <a:gd name="textAreaRight" fmla="*/ 24768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73840" y="1905120"/>
            <a:ext cx="9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27432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0840" y="27813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 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48200" y="35053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48200" y="41148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43800" y="4038480"/>
            <a:ext cx="12952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andard Devi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1219320"/>
            <a:ext cx="685800" cy="5181480"/>
          </a:xfrm>
          <a:custGeom>
            <a:avLst/>
            <a:gdLst>
              <a:gd name="textAreaLeft" fmla="*/ 0 w 685800"/>
              <a:gd name="textAreaRight" fmla="*/ 24768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1905120"/>
            <a:ext cx="9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27432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0840" y="27813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 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48200" y="35053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48200" y="41148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543800" y="4038480"/>
            <a:ext cx="137160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find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andard Deviatio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the other class grad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8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1219320"/>
            <a:ext cx="685800" cy="5181480"/>
          </a:xfrm>
          <a:custGeom>
            <a:avLst/>
            <a:gdLst>
              <a:gd name="textAreaLeft" fmla="*/ 0 w 685800"/>
              <a:gd name="textAreaRight" fmla="*/ 24768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4200" y="1905120"/>
            <a:ext cx="11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8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274320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9360" y="27813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 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48560" y="35053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5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48560" y="41148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.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, lets compare the two classes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47640" y="2209680"/>
          <a:ext cx="7848720" cy="4038840"/>
        </p:xfrm>
        <a:graphic>
          <a:graphicData uri="http://schemas.openxmlformats.org/drawingml/2006/table">
            <a:tbl>
              <a:tblPr/>
              <a:tblGrid>
                <a:gridCol w="2616120"/>
                <a:gridCol w="2616480"/>
                <a:gridCol w="2616120"/>
              </a:tblGrid>
              <a:tr h="13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on the Qui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Devi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685800" y="3733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1.5          81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8          15.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nce the averages are the same, can we assume that the students in both classes all did pretty much the same on the exa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answer is… No.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average (mean) does not tell us anything about the distribution or variation in the grad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are Dot-Plots of the grades in each clas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50012"/>
          <a:stretch/>
        </p:blipFill>
        <p:spPr>
          <a:xfrm>
            <a:off x="1447920" y="152280"/>
            <a:ext cx="6249960" cy="328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49993" r="0" b="0"/>
          <a:stretch/>
        </p:blipFill>
        <p:spPr>
          <a:xfrm>
            <a:off x="1447920" y="3517920"/>
            <a:ext cx="6248160" cy="3289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9200" y="5105520"/>
            <a:ext cx="0" cy="16002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1676520"/>
            <a:ext cx="0" cy="16002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73840" y="32004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181120" y="3657600"/>
            <a:ext cx="304812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105520" y="2209680"/>
            <a:ext cx="32004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, we need to come up with some way of measuring not just the average, but also the spread of the distribution of our dat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y not just give an average and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ang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f data (the highest and lowest values) to describe the distribution  of the dat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, for example, lets say from a set of data, the average is 17.95 and the range is 2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960" y="4191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what if the data looked like th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1:51:50Z</dcterms:created>
  <dc:creator>Jonathan Osler</dc:creator>
  <dc:description/>
  <dc:language>en-US</dc:language>
  <cp:lastModifiedBy>soe Goodman</cp:lastModifiedBy>
  <dcterms:modified xsi:type="dcterms:W3CDTF">2013-05-15T01:13:34Z</dcterms:modified>
  <cp:revision>46</cp:revision>
  <dc:subject/>
  <dc:title>Standard Deviation</dc:title>
</cp:coreProperties>
</file>